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9F3-5F25-405E-B44B-26629861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CEA-C1E9-4C77-8D6F-CDD34C7F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71B-E3D3-457D-A2FB-136296A2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C70-1DFC-4E3F-ADFD-9BF01D84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CA16-43B3-4164-9CD0-735EADC5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E2B9-341E-4A03-AB2B-F633A532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516-DC43-41BB-82A1-E9DD0987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171-9C31-4954-A7AB-E732B83B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76F-7066-48BE-92A3-A70FC9C1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BEC-2FEE-4A4D-82E5-A974E57C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F68-4BE1-48DD-89BA-57D46FCD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1F1-F0CC-48CA-85E3-D19B2827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531C-F253-4F01-9077-186209B09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2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0866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5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86600" cy="47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477120" cy="48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895720" cy="47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078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19:25:31Z</dcterms:created>
  <dc:creator>netadmin8</dc:creator>
  <dc:description/>
  <dc:language>en-US</dc:language>
  <cp:lastModifiedBy>netadmin8</cp:lastModifiedBy>
  <dcterms:modified xsi:type="dcterms:W3CDTF">2013-10-10T15:51:26Z</dcterms:modified>
  <cp:revision>5</cp:revision>
  <dc:subject/>
  <dc:title>River</dc:title>
</cp:coreProperties>
</file>